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46E-5E36-4433-A48E-8577FA8C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14C-C25E-487F-A3D2-3C2EC299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CC3-4137-4F3A-AD82-3C2440A1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D51-D8E8-4AD1-B5E4-1E7CA7F6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26A-5589-45E6-A312-3A393AA3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E297-DCA2-47DF-90D8-7BA85A7F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32D3-2F5B-49FA-9E9C-644618EB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6E6-ABCA-452D-B980-F0BCE3AF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6AC-17C7-46CA-BCBA-BDAD4368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B81A-F09A-41D1-A824-4D82538C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5589-2F95-478C-8AFF-2547DBFF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4DB-6CA3-4EB1-A0AD-2FE0CAC8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D116-2528-4896-9720-7704A2FDC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Acropole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aphael_School_of_Athen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Greece_topo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lexa Munoz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- a Greek City-sta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upload.wikimedia.org/wikipedia/commons/thumb/5/53/Acropole1.jpg/300px-Acropole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- a study of wisdom and the right way to live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upload.wikimedia.org/wikipedia/commons/thumb/c/c3/Raphael_School_of_Athens.jpg/300px-Raphael_School_of_Athen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- an area of land nearly surrounded by wa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upload.wikimedia.org/wikipedia/commons/thumb/b/bc/Greece_topo.jpg/220px-Greece_top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- the war between Athens and Spart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historyforkids.org/learn/greeks/history/pictures/alexmosaic.jpg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- the kind of government that is run by a small group of peop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esterlund10.wikis.birmingham.k12.mi.us/file/view/oligarchy.gif/210870380/oligarchy.gif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- a sheltered place along a coas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fineartpaintingtips.com/wp-content/uploads/2010/10/ancient-greek-ships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historylink101.net/greek_images/acropolis-from-below.jpg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upload.wikimedia.org/wikipedia/commons/thumb/5/56/AncientAgoraofAthensColour.jpg/300px-AncientAgoraofAthensColour.jpg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y – a lawmaking place where people voted on issues that helped their cit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thehistoryblog.com/wp-content/uploads/2010/04/remains-of-greek-diy-building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itizen- a person who has certain rights and responsibilities to his or her countr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historyoftheancientworld.com/wp-content/uploads/2009/12/Athens.JP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- a group of people who lived apart from Greece but kept economies ties with i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image.shutterstock.com/display_pic_with_logo/339454/339454,1283459365,1/stock-photo-ancient-greek-colony-chersonesos-ruins-in-crimea-ukraine-on-the-banck-of-black-sea-60245548.jpg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- a form of government where people vote to make decis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www.gsl.gsu.edu.tr/democracy/1.jpg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- they hear evidence and make decisions in a court of la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ows.edb.utexas.edu/sites/default/files/users/%0D%0ARhonda%20Nelson/kleroterion-400w.jpg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- government headed by one rul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t2.gstatic.com/images?q=tbn:ANd9GcRH7pQu1Y5YZaeTjOSxZykqn5s5N9I78RrB2HCOtQmBI4HFYXP3E5xF2Ig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15:39:40Z</dcterms:modified>
  <cp:revision>91</cp:revision>
  <dc:subject/>
  <dc:title>Ancient Greece</dc:title>
</cp:coreProperties>
</file>